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54B4-BFB5-49DC-B913-8ABB6352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6152-DAE2-4578-A32E-9E2245D9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9BDC-3F60-4DED-9654-A2F8BB7E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817A-D96A-49C3-9CB3-0D87C7CC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88D5-7A47-4890-AA92-58089F9D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4F16-DF84-412C-B4E2-193CC68C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160F-920C-4072-8B16-8257929C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179E-7C08-44D2-9AFE-32BE7945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2526-F689-4E84-A15D-5F9FA0BF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E818-0760-48C1-8FFE-180E0430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CE3A-73BD-4893-8496-DBF031AF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8431-0D25-4DBD-9C64-E3FBC759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F2B4-1928-4F04-ACB7-0B754C0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9DB0-B749-4AA8-A80C-9ADE6164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C759-E532-4EFF-8E6D-A88848EC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61D0-E169-4879-B202-4F6326E1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1A6C-7986-4845-9021-2DEB32E5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1C1A-CAAA-4A5D-8C57-C1E0A8DF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76B5-0344-4223-BD66-9918A324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6777-38DB-4508-B2CD-DD026921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B5DF-3C9B-40DD-A3D9-0DDDA4A8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74D0-2F53-45C8-B7DE-448E3ADD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FDD8-16E1-4774-85B0-29FED924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5365-CA15-46EF-9D0E-917BB85E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F03D-FB56-40CF-85B5-AD4374583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C452-7052-4EB8-92F9-DAC676C12C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12218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ide illustrates the use of the gradient map to expand the visibility of the image detail that is other-wise hidden in the dark and the bright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utilizes one of the LUTs that is provided, which was designed for that ta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6"/>
          <p:cNvSpPr/>
          <p:nvPr/>
        </p:nvSpPr>
        <p:spPr>
          <a:xfrm>
            <a:off x="84600" y="18432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3a4"/>
                </a:solidFill>
                <a:latin typeface="Arial"/>
              </a:rPr>
              <a:t>On-Line Journal Imag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3924000" y="2682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3a4"/>
                </a:solidFill>
                <a:latin typeface="Arial"/>
              </a:rPr>
              <a:t>Visualize with Gradient Ma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7964280" y="0"/>
            <a:ext cx="1181880" cy="368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Metho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27"/>
          <p:cNvGraphicFramePr/>
          <p:nvPr/>
        </p:nvGraphicFramePr>
        <p:xfrm>
          <a:off x="320760" y="933480"/>
          <a:ext cx="2606760" cy="50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33480"/>
                    <a:ext cx="260676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0" name="Group 29"/>
          <p:cNvGrpSpPr/>
          <p:nvPr/>
        </p:nvGrpSpPr>
        <p:grpSpPr>
          <a:xfrm>
            <a:off x="2824200" y="838080"/>
            <a:ext cx="3022560" cy="5691240"/>
            <a:chOff x="2824200" y="838080"/>
            <a:chExt cx="3022560" cy="5691240"/>
          </a:xfrm>
        </p:grpSpPr>
        <p:sp>
          <p:nvSpPr>
            <p:cNvPr id="521" name="Text Box 19"/>
            <p:cNvSpPr/>
            <p:nvPr/>
          </p:nvSpPr>
          <p:spPr>
            <a:xfrm>
              <a:off x="3307320" y="616104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map Intensitie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28"/>
            <p:cNvGraphicFramePr/>
            <p:nvPr/>
          </p:nvGraphicFramePr>
          <p:xfrm>
            <a:off x="2824200" y="838080"/>
            <a:ext cx="3022560" cy="524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24200" y="838080"/>
                      <a:ext cx="302256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4" name="Group 31"/>
          <p:cNvGrpSpPr/>
          <p:nvPr/>
        </p:nvGrpSpPr>
        <p:grpSpPr>
          <a:xfrm>
            <a:off x="5759280" y="716040"/>
            <a:ext cx="3114720" cy="6100560"/>
            <a:chOff x="5759280" y="716040"/>
            <a:chExt cx="3114720" cy="6100560"/>
          </a:xfrm>
        </p:grpSpPr>
        <p:sp>
          <p:nvSpPr>
            <p:cNvPr id="525" name="Text Box 21"/>
            <p:cNvSpPr/>
            <p:nvPr/>
          </p:nvSpPr>
          <p:spPr>
            <a:xfrm>
              <a:off x="6371640" y="6448320"/>
              <a:ext cx="194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False-Col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6" name="Object 30"/>
            <p:cNvGraphicFramePr/>
            <p:nvPr/>
          </p:nvGraphicFramePr>
          <p:xfrm>
            <a:off x="5759280" y="716040"/>
            <a:ext cx="3114720" cy="5591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7" name="Object 3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59280" y="716040"/>
                      <a:ext cx="3114720" cy="559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4:28:19Z</dcterms:created>
  <dc:creator>John Krueger, DIO/ORI/DHHS</dc:creator>
  <dc:description/>
  <dc:language>en-US</dc:language>
  <cp:lastModifiedBy>John Krueger</cp:lastModifiedBy>
  <dcterms:modified xsi:type="dcterms:W3CDTF">2011-12-13T16:45:59Z</dcterms:modified>
  <cp:revision>199</cp:revision>
  <dc:subject/>
  <dc:title>Principles in  Forensic Image Processing for Science</dc:title>
</cp:coreProperties>
</file>