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91979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A9163-1A0B-4C39-A100-3C4EF9E39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12036-A292-4110-B7B7-5BA2DF8A5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304A8-6B35-4A4B-AE3C-F0625DDEE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0C900-2E3E-4C02-B2DF-A1175A8BC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A1E1F-9F8B-401F-8B8E-2500613CC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B7932-541B-47E2-A1CC-512B93E05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775B3-FA6D-4647-AF26-1A840DF05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D9E33-B3FA-486E-A80C-861A513BF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B8376-D027-4751-BAAE-50E0292B2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B00CB-2638-4CE5-B31B-C137D4143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4AE8B-EAE3-42D8-B1DF-AD2DE314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03D6F-7851-4294-B09F-8ABEF1886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669FB-1CCC-4707-90B8-7FA30BA3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BCD0A-C2D1-4602-8A7E-B88719DF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01D97-FECF-4245-B5BF-A162E1F54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78767-441B-4BB7-A1B7-589E7C445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3CA1F-F39A-437D-A16E-2A1D65115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F78E7-E649-43C2-BF43-5B036060A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94076-274D-4BE0-8028-6245395BC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D029B-2CB4-4325-B18F-91A26D2B1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F61DE-FE36-4238-902F-6F28D7C1E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A4BE3-9384-47C9-B26D-75996815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FB29B-C6D2-499F-A6D5-23AD8A95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DED5E-8576-4B90-91C0-E278D3E8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30478-2CAD-4F1A-876F-F78A022E8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0229D-D3FF-4E14-A38B-26F2AE2A539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457200" y="1221840"/>
            <a:ext cx="8229600" cy="45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lide illustrates the use of the gradient map to expand the visibility of the image detail that is other-wise hidden in the dark and the bright are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utilizes one of the LUTs that is provided, which was designed for that tas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6"/>
          <p:cNvSpPr/>
          <p:nvPr/>
        </p:nvSpPr>
        <p:spPr>
          <a:xfrm>
            <a:off x="84600" y="184320"/>
            <a:ext cx="35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3a4"/>
                </a:solidFill>
                <a:latin typeface="Arial"/>
              </a:rPr>
              <a:t>On-Line Journal Imag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 Box 7"/>
          <p:cNvSpPr/>
          <p:nvPr/>
        </p:nvSpPr>
        <p:spPr>
          <a:xfrm>
            <a:off x="3924000" y="268200"/>
            <a:ext cx="43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3a4"/>
                </a:solidFill>
                <a:latin typeface="Arial"/>
              </a:rPr>
              <a:t>Visualize with Gradient Map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24"/>
          <p:cNvSpPr/>
          <p:nvPr/>
        </p:nvSpPr>
        <p:spPr>
          <a:xfrm>
            <a:off x="7964280" y="0"/>
            <a:ext cx="1181880" cy="36828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Tahoma"/>
              </a:rPr>
              <a:t>Method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8" name="Object 27"/>
          <p:cNvGraphicFramePr/>
          <p:nvPr/>
        </p:nvGraphicFramePr>
        <p:xfrm>
          <a:off x="320760" y="933480"/>
          <a:ext cx="2606760" cy="50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9" name="Object 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760" y="933480"/>
                    <a:ext cx="2606760" cy="50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0" name="Group 29"/>
          <p:cNvGrpSpPr/>
          <p:nvPr/>
        </p:nvGrpSpPr>
        <p:grpSpPr>
          <a:xfrm>
            <a:off x="2824200" y="838080"/>
            <a:ext cx="3022560" cy="5691240"/>
            <a:chOff x="2824200" y="838080"/>
            <a:chExt cx="3022560" cy="5691240"/>
          </a:xfrm>
        </p:grpSpPr>
        <p:sp>
          <p:nvSpPr>
            <p:cNvPr id="521" name="Text Box 19"/>
            <p:cNvSpPr/>
            <p:nvPr/>
          </p:nvSpPr>
          <p:spPr>
            <a:xfrm>
              <a:off x="3307320" y="6161040"/>
              <a:ext cx="213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emap Intensities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22" name="Object 28"/>
            <p:cNvGraphicFramePr/>
            <p:nvPr/>
          </p:nvGraphicFramePr>
          <p:xfrm>
            <a:off x="2824200" y="838080"/>
            <a:ext cx="3022560" cy="5245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23" name="Object 2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24200" y="838080"/>
                      <a:ext cx="3022560" cy="5245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24" name="Group 31"/>
          <p:cNvGrpSpPr/>
          <p:nvPr/>
        </p:nvGrpSpPr>
        <p:grpSpPr>
          <a:xfrm>
            <a:off x="5759280" y="716040"/>
            <a:ext cx="3114720" cy="6100560"/>
            <a:chOff x="5759280" y="716040"/>
            <a:chExt cx="3114720" cy="6100560"/>
          </a:xfrm>
        </p:grpSpPr>
        <p:sp>
          <p:nvSpPr>
            <p:cNvPr id="525" name="Text Box 21"/>
            <p:cNvSpPr/>
            <p:nvPr/>
          </p:nvSpPr>
          <p:spPr>
            <a:xfrm>
              <a:off x="6371640" y="6448320"/>
              <a:ext cx="194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False-Color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26" name="Object 30"/>
            <p:cNvGraphicFramePr/>
            <p:nvPr/>
          </p:nvGraphicFramePr>
          <p:xfrm>
            <a:off x="5759280" y="716040"/>
            <a:ext cx="3114720" cy="5591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27" name="Object 3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759280" y="716040"/>
                      <a:ext cx="3114720" cy="5591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2T14:28:19Z</dcterms:created>
  <dc:creator>John Krueger, DIO/ORI/DHHS</dc:creator>
  <dc:description/>
  <dc:language>en-US</dc:language>
  <cp:lastModifiedBy>John Krueger</cp:lastModifiedBy>
  <dcterms:modified xsi:type="dcterms:W3CDTF">2011-12-13T16:45:59Z</dcterms:modified>
  <cp:revision>199</cp:revision>
  <dc:subject/>
  <dc:title>Principles in  Forensic Image Processing for Science</dc:title>
</cp:coreProperties>
</file>